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A54-C388-4B23-AE33-6B641907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AA6-C350-4267-B975-BD86733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6C9-1D64-49A5-A124-24124AAE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866-75C3-4B19-BCCB-05A29BA8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EAF-A49E-4B37-B5DD-60567692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FC5D-CA9A-4CC5-81AC-09AAF04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9C1-A321-43EF-A2C4-7CE09FD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6EF8-3CF4-4904-AA48-56DF837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3C11-90C1-451D-B00B-15F144A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BD7E-0EC7-49FA-833B-A74EBFCE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C9E7-E610-45F1-91F4-A12AD0A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534-3BB5-4A24-AD33-AC67AEA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493-8136-40D1-BC3D-6ADBC8F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A82-69DC-4DFA-8FB0-EA0710A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C732-377C-458F-9E73-45B9D57F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609D-ED22-4418-9681-7F695DCB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707B-A39C-4729-A0A3-C070AFCF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ADA-9145-4EDB-8707-C3645C6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55C-1D3D-4E9C-A8B1-45EFC4E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73F-035D-4746-9CE1-1B67C6C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839-5EA1-4EA7-9B7F-01DEA38C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9D2-8D38-4B30-904D-BB89C7F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1CC-2B04-4BEC-82C8-902DBF1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A50-D4C5-4A09-91D0-26357A0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D28-96E9-4B51-ACB0-DE425D0FF310}" type="slidenum">
              <a:rPr b="0" lang="de-DE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3FE-5B93-4E11-A441-BC1B044E0474}" type="slidenum">
              <a:rPr b="0" lang="de-DE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270828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xiserprobung und Vorstellung verschiedener Teilbereic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A</a:t>
            </a:r>
            <a:br>
              <a:rPr sz="1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änz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522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6699"/>
                </a:solidFill>
                <a:latin typeface="Arial Narrow"/>
              </a:rPr>
              <a:t>Gliederung der Veranstaltu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3962520"/>
          <a:ext cx="23814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962520"/>
                    <a:ext cx="23814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68600" y="5157720"/>
            <a:ext cx="65754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gerungen/Hinweise zum Einsatz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/Einzelarbeit, Zeithei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führungshilfen: Bildschirmkreis, Beamer, Screensh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41300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zvo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844640"/>
            <a:ext cx="835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ungsführung –  Schüler / Leh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4076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zieren von Programm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57336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druck von Arbeitsblä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492280"/>
            <a:ext cx="813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4869000"/>
            <a:ext cx="648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314136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Lern- und Übungsprogramm für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lassenstufen und prinzipiell alle Fä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476280"/>
            <a:ext cx="532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421000"/>
            <a:ext cx="813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336699"/>
                </a:solidFill>
                <a:uFillTx/>
                <a:latin typeface="Arial"/>
              </a:rPr>
              <a:t>Einige Merkmale/Besonderh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084640"/>
            <a:ext cx="806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ungsmuster können oft modifizi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221000"/>
            <a:ext cx="80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er Schüler werden gespeichert – Defizite können nachvollzog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734080"/>
            <a:ext cx="80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693720"/>
            <a:ext cx="51130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cc3300"/>
                </a:solidFill>
                <a:latin typeface="Arial Narrow"/>
              </a:rPr>
              <a:t>Folgerungen/Hinwei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ernwerkstatt eignet sich bestens für den Einsatz in der Wochenplanarbeit. Zumeist ist Einzelarbeit effektiv, PA prinzipiell möglich, aber nur teilweise sinnvoll/erford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284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 Klasse 1, aber auch jederzeit später kann eine Lerngruppe beg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08464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3657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nvolle Übungseinheiten liegen – je nach Übung – zwischen 10 – 20 Minuten (Eieruhr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8972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Kind muss wissen, dass es dran kom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eihenfolge der Benutzer muss den Kindern klar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0" y="475920"/>
            <a:ext cx="340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Konkrete</a:t>
            </a:r>
            <a:br>
              <a:rPr sz="4800"/>
            </a:br>
            <a:r>
              <a:rPr b="1" lang="de-DE" sz="4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 Ratschläge: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2743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ue Übungsteile (Programmeinführungen) voranstellen - Teilgruppen im Halbkreis, Beamer, ABs mit Programmteilen (STRG + Dru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sten mit Reihenfolgen und Eieruhren können hilfreich sein (Wochen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pfhöhrer vermeiden Stö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nige Programme zur Auswahl stellen, aber auf Wahlmöglichkeiten nicht verz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Einmaleinszuege"/>
          <p:cNvPicPr/>
          <p:nvPr/>
        </p:nvPicPr>
        <p:blipFill>
          <a:blip r:embed="rId1"/>
          <a:stretch/>
        </p:blipFill>
        <p:spPr>
          <a:xfrm>
            <a:off x="900000" y="26028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48:19Z</dcterms:created>
  <dc:creator>Matthias Hansche</dc:creator>
  <dc:description/>
  <dc:language>en-US</dc:language>
  <cp:lastModifiedBy>TM</cp:lastModifiedBy>
  <cp:lastPrinted>2002-09-06T15:39:32Z</cp:lastPrinted>
  <dcterms:modified xsi:type="dcterms:W3CDTF">2005-06-24T10:21:56Z</dcterms:modified>
  <cp:revision>30</cp:revision>
  <dc:subject/>
  <dc:title>Kein Folientitel</dc:title>
</cp:coreProperties>
</file>